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pptx" ContentType="application/vnd.openxmlformats-officedocument.presentationml.presentation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5EE-3D17-4563-B5EC-FAC5D3D1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928-0C50-441A-AC23-04309EE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F40-9992-470E-A5F7-928FDAE7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EAF-0DAF-4424-8ADD-BCF3198E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CD10-52A0-4FFA-8E93-E96EA258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6BCC-7F05-4953-8109-9D3B2A96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07E0-8D1B-4E35-94BC-DF78A0F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53A0-A1AB-46D7-B325-A8FF0D7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436-87A8-4FF1-ACF2-68E5D19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7DF-1C42-49EE-81CB-296E03A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380-52B8-4D37-991C-9E8F10B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097-DA26-4B21-8814-85E034C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038B-1436-4AC8-A297-32CF8C5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C44-FA30-437F-9875-F3BA89C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882-1A7D-4C98-874B-2F79212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3B9-BD7E-41F1-8296-A2A89F65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419F-9530-4B91-8CE3-3A4374E2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58D-F328-4C04-86AD-805232D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6DA-39E4-444A-82F2-A9F1EA1B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CA4-2227-4F9D-A0F3-6F78364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D60-035E-4D64-9C4E-7A0FECD3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F4D-C07C-44F6-9578-65D636B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C1A-94F9-46B5-BFC9-5AAC18D7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BC6-A9BB-414B-AAC9-7CF7EC7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D10E-9470-4F17-886F-AAA780AFD9E6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0595-D405-4856-B728-F5FCFD730490}" type="slidenum">
              <a:rPr b="0" lang="hu-H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ternet menedzsmen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anagement Information Base (MIB)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szabvány írja le, hogy a router-eknek, hosztoknak (és egyéb eszközöknek) milyen adatokat kell nyilvántartaniuk, és ezeken milyen műveleteket kell megengedniü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l.: az IP szoftvernek nyilván kell tartania, hogy hány byte érkezett az egyes interfészeire, és hogy ezek az adatok csak olvasható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A TCP/IP MIB a menedzselt információt 8 kategóriába sorolja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342520"/>
                <a:gridCol w="5886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B kategó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ációt ad az alábbiakró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oszt vagy router operációs rendsz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álózati interfés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dr. tra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ím fordítás (pl. ARP leképzé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net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net Control Message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mission Control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er Datagram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erior Gateway Protocol szoft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IB definíció független a menedzsment protokolltó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IB változhat, új adatok jelenhetnek meg benne, amelyeket az agent-ek nem tudnak szolgáltatn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szabványnak eleget tevő agent és kliens programok kommunikálnak egymással akkor is, ha az agent nem tartalmazza az összes adatot, amely a MIB-ben szerepe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Példák MIB változókra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539640" y="907920"/>
          <a:ext cx="8136000" cy="5429520"/>
        </p:xfrm>
        <a:graphic>
          <a:graphicData uri="http://schemas.openxmlformats.org/drawingml/2006/table">
            <a:tbl>
              <a:tblPr/>
              <a:tblGrid>
                <a:gridCol w="2116080"/>
                <a:gridCol w="2116440"/>
                <a:gridCol w="390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B változ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elent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UpT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olsó reboot óta eltelt id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N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hálózati interfész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M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fa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interfész MTU-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DefaultTT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TL mezőben használt érté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InReceiv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beérkeze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ForwDatagr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ovábbíto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OutNoRou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routing hib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ReasmO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újraösszeállítot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FragO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ördelt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Routing 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P routing táb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InEch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c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ICMP echo kérés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Rto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legkisebb újraküldési idő, amelyet a TCP megeng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MaxCon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maximálisan megengedett TCP kapcs.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InSe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CP által fogadott szegmens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InDatagr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fogadott UDP adatgrammá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InMs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fogadott EGP üzenet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0" y="59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 MIB objektum nevek struktúrája és megjelenítés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eret (object identifier namespace) az ISO és az ITU adminisztrá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ér bármilyen lehetséges objektum nevét tartalmazhatja, nem csak MIB változókét (pl. protokoll szabvány nev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bjektum azonosító névtér globális, vagyis minden név globálisan egyed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elépítése hierarchikus. A névtér egyes részei kezelésének joga különböző csoportokhoz van rendel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névtér felépít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95280" y="1268280"/>
          <a:ext cx="3552840" cy="44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35528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356000" y="1773360"/>
          <a:ext cx="3990960" cy="32288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773360"/>
                    <a:ext cx="399096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névtér felépít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yökér névtelen. Minden leszármazottnak van egy neve (emberi olvasásra), és egy száma (gépi azonosításra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-egy objektum neve pontokkal elválasztott címkék vagy számok sorozata a gyökértől az objektumi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inden MIB változó 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 vagy az 1.3.6.1.2.1 előtaggal kezdőd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ip kategó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.ip vagy az 1.3.6.1.2.1.4 előtaggal kezdőd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ipInReceives MIB változó ne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so.org.dod.internet.mgmt.mib.ip.ipInReceives vagy az 1.3.6.1.2.1.4.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változó neve és az azonosító száma közötti megfeleltetést a szabvány tartalmaz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Simple Network Management Protocol (SNMP)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protokoll specifikálja a kliens (menedzsment program) és a szerver (menedzselt eszköz: router, hoszt,…) közötti kommunikációt: üzenetek alakja és jelentése, az üzenetekben lévő adatok neve és értéke, a menedzserek azonosítása, jogainak ellenőrzé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SNMP csak néhány műveletet tartalmaz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űveletek végrehajtását a fetch-store (lekér-visszaír) módszerrel oldja me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áltozók lekérésére, és értékek visszaírására van lehetőség. Minden más művelet ezek mellékhatásaként lesz végrehajtv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l.: Nincs explicit reboot paranc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Helyette lehet definiálni olyan MIB változó, amely tartalmazza a következő reboot-ig hátralévő idő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zt az időt az SNMP-vel megadhatjuk (akár 0 is lehet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Mi is az Internet menedzs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z internet szolgáltatási és alkalmazói programjain kívül szükség van olyan programra is, amely segíti az üzemeltetőket a hibák feltárásában, a forgalomirányítás vezérlésében, a számítógépek hibás protokolljainak felderítéséb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zt a tevékenységet internet menedzsmentnek nevezzü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Az SNMP parancsa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request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kéri egy változó érték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next-request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kéri egy változó értékét, anélkül, hogy megadnánk a nev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get-response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álasz egy lekérés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set-response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ltárolja egy változó értéké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trap –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Válasz  egy kiváltott esemény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SNMP deklarálja, hogy a műveletek atomi jellegűek, vagyis ha az SNMP üzenet több változó megváltozásával jár, akkor vagy mindegyik megváltozik, vagy egyik s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trap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művelet, lehetővé teszi, hogy bizonyos, előre megadott események bekövetkezésekor az agent információt küldjön a kliensne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Internet több és különböző típusú hálózatokból áll, amelyeket router-ek kapcsolnak össz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ellemző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router-ek különböző típusúak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menedzselendő eszközök nem rendelkeznek közös adatkapcsolati protokollal, é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 hálózat különböző pontjain helyezkednek 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jellemzőkből következően a menedzsment szoftvernek olyan protokollal kell rendelkeznie, amely az Internet bármely két pontja közötti kapcsolatot biztosítj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Ezért az Internet menedzsment protokollok alkalmazási szinten működnek, és a TCP/IP szállítási protokolljait használják kommunikációra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alkalmazási szint használatának előnyei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gendő egyetlen protokoll készlet az egész internet menedzselésére (hálózati hardvertől függetl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legkülönbözőbb típusú eszközök menedzselhetők ugyanazzal a protokoll készlett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nedzser szemszögéből: az összes eszköz ugyanazzal a parancskészlettel vezérelhet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IP protokoll használata miatt bármelyik fizikai hálózaton lévő eszközök menedzselhető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alkalmazási szint használatának hátrányai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z operációs rendszernek, az IP szoftvernek és a szállítási protokollnak is hibátlanul kell működnie, hogy a menedzser elérje a vezérlendő eszköz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l. a router hibás routing táblája miatt nem érhető el és nem javítható ki a routing táblá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a router operációs rendszere nem működik, akkor a menedzsment szoftver sem működik rajta, miközben a csomagokat route-ol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modell architektúrája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elni kívánt eszközök (hosztok, router-ek, switch-ek) egy szerver programot futtatnak (MS), amelyet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management 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-nek nevezün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er egy kliens programot futtat a számítógépén (MC) és kijelöli azt az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-et, amellyel kommunikálni ak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zután a kliens lekérdezheti a szervert (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gent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) vagy olyan parancsot küld, amellyel megváltoztatja az állapot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674640" y="460440"/>
          <a:ext cx="7796160" cy="59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460440"/>
                    <a:ext cx="779616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132000" y="3213000"/>
          <a:ext cx="52560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213000"/>
                    <a:ext cx="525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924360" y="4653000"/>
          <a:ext cx="5252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653000"/>
                    <a:ext cx="525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580000" y="4437000"/>
          <a:ext cx="52560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437000"/>
                    <a:ext cx="525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284720" y="3213000"/>
          <a:ext cx="52524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3213000"/>
                    <a:ext cx="525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140360" y="1989000"/>
          <a:ext cx="525240" cy="7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1989000"/>
                    <a:ext cx="525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79280" y="2276640"/>
          <a:ext cx="65088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2276640"/>
                    <a:ext cx="6508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500720" y="189000"/>
          <a:ext cx="536400" cy="71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189000"/>
                    <a:ext cx="5364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835280" y="404640"/>
          <a:ext cx="583920" cy="77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35280" y="404640"/>
                    <a:ext cx="5839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76360" y="5877000"/>
          <a:ext cx="6080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6360" y="5877000"/>
                    <a:ext cx="6080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8317080" y="4149720"/>
          <a:ext cx="639720" cy="60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17080" y="4149720"/>
                    <a:ext cx="639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219640" y="1557360"/>
          <a:ext cx="776520" cy="603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19640" y="1557360"/>
                    <a:ext cx="7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516720" y="3500280"/>
          <a:ext cx="776160" cy="603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516720" y="3500280"/>
                    <a:ext cx="7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643280" y="5157720"/>
          <a:ext cx="776520" cy="603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5157720"/>
                    <a:ext cx="7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411280" y="4005360"/>
          <a:ext cx="77652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005360"/>
                    <a:ext cx="7765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700360" y="2349360"/>
          <a:ext cx="776160" cy="603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700360" y="2349360"/>
                    <a:ext cx="7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 flipH="1">
            <a:off x="2050560" y="5516640"/>
            <a:ext cx="2808360" cy="649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916000" y="4365720"/>
            <a:ext cx="1150920" cy="358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4941720"/>
            <a:ext cx="647640" cy="43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076720" y="4797000"/>
            <a:ext cx="71928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012000" y="3933360"/>
            <a:ext cx="79200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093080" y="3860280"/>
            <a:ext cx="136656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87640" y="3573000"/>
            <a:ext cx="289080" cy="64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2708280"/>
            <a:ext cx="217440" cy="5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59280" y="3573360"/>
            <a:ext cx="1296720" cy="719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16360" y="1989000"/>
            <a:ext cx="863640" cy="136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572000" y="1989000"/>
            <a:ext cx="93672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76720" y="2349360"/>
            <a:ext cx="93492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549360"/>
            <a:ext cx="6476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40000" y="836640"/>
            <a:ext cx="719280" cy="165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2781360"/>
            <a:ext cx="201600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enedzsment protokollokat 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2 szabvány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írja 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z információ kommunikációjával foglalkozik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a kliens és az agent között. Leírja az üzenetek formáját és jelentését, valamint a nevek és címek alakj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A menedzselt adatokkal foglalkozik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. Leírja, hogy milyen adatokat kell nyilvántartani, az adatok nevét és szintaxisá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 protokoll architektúrá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etwork Management Protocol szabvá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TCP/IP-ben használt menedzsment protokoll: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Simple Network Management Protocol (SNMP)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. Újabb változat: SNMPv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nedzselt információra vonatkozó szabvá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menedzselt router-ek állapot és vezérlő információt tartalmaznak, amelyekhez a menedzser hozzáférhet. Ilyene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tatisztika interfészekről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bejövő és kimenő forgalom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z eldobott csomago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generált hibaüzenetek, stb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7:34:06Z</dcterms:created>
  <dc:creator>Nagymáté Péter</dc:creator>
  <dc:description/>
  <dc:language>en-US</dc:language>
  <cp:lastModifiedBy>Nagymáté Péter</cp:lastModifiedBy>
  <dcterms:modified xsi:type="dcterms:W3CDTF">2004-12-16T08:16:12Z</dcterms:modified>
  <cp:revision>9</cp:revision>
  <dc:subject/>
  <dc:title>Internet menedzsment</dc:title>
</cp:coreProperties>
</file>